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A4FE-DC15-4776-BBA7-2F55C48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480E-5EAF-4F08-928F-8A000FE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9B98-7513-4685-8309-E6C838EB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ED5A-2EB7-4898-BDC4-4DC6407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A227-97B4-4E7B-98B8-9245FD8F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DF44-F979-4B2D-874D-4784FBE6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6736-019C-4EF6-8CF0-A5BA841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9E50-D982-4150-BF5D-F157B70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048-83D3-4C5E-89C2-7D7E9D6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5461-DA9F-4B1B-BC34-D7FCF33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661-018B-4B64-95B4-B9BFA02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188B-F358-43C9-8CB3-83C5B028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7460-F7A8-47DE-91E7-42281EC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AC0-89C0-4045-A243-C61212A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58B4-1940-40A3-B631-CFB47825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984C-7699-44A0-9EA9-AADD0BAC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CA5A-4067-4112-A2E1-FA7DFC4E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AB50-41CA-4E47-8831-14235026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ABFB-DA37-4435-A161-066992E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7A88-AA79-4D69-90E5-418EE66F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E0DA-6361-41C0-9C77-CE63D310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0490-988D-4580-8AF2-6C17798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CB92-D2C0-4414-9D28-9238CB2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A8B4-6265-4793-91C1-A0C5BFAF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AA7-4E17-48B3-950E-DFE7FE397E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810-78BF-4847-A8C0-9818A58708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Исследование планеты Земл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2592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1197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рхите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357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Би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580000" y="105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иродо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19640" y="364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Искуссто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arc0"/>
          <p:cNvPicPr/>
          <p:nvPr/>
        </p:nvPicPr>
        <p:blipFill>
          <a:blip r:embed="rId1"/>
          <a:stretch/>
        </p:blipFill>
        <p:spPr>
          <a:xfrm>
            <a:off x="3132000" y="476280"/>
            <a:ext cx="1863720" cy="2104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82" name="Picture 8" descr="uwd_ru_36"/>
          <p:cNvPicPr/>
          <p:nvPr/>
        </p:nvPicPr>
        <p:blipFill>
          <a:blip r:embed="rId2"/>
          <a:stretch/>
        </p:blipFill>
        <p:spPr>
          <a:xfrm>
            <a:off x="1835280" y="2924280"/>
            <a:ext cx="2305080" cy="198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570400" cy="1982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20574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6"/>
          <p:cNvGrpSpPr/>
          <p:nvPr/>
        </p:nvGrpSpPr>
        <p:grpSpPr>
          <a:xfrm>
            <a:off x="6588000" y="3141720"/>
            <a:ext cx="2303640" cy="1366920"/>
            <a:chOff x="6588000" y="3141720"/>
            <a:chExt cx="2303640" cy="1366920"/>
          </a:xfrm>
        </p:grpSpPr>
        <p:sp>
          <p:nvSpPr>
            <p:cNvPr id="109" name="Oval 17"/>
            <p:cNvSpPr/>
            <p:nvPr/>
          </p:nvSpPr>
          <p:spPr>
            <a:xfrm>
              <a:off x="6588000" y="3141720"/>
              <a:ext cx="2303640" cy="1366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6804000" y="35002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воро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5"/>
          <p:cNvGrpSpPr/>
          <p:nvPr/>
        </p:nvGrpSpPr>
        <p:grpSpPr>
          <a:xfrm>
            <a:off x="2916360" y="1052640"/>
            <a:ext cx="2950920" cy="1655640"/>
            <a:chOff x="2916360" y="1052640"/>
            <a:chExt cx="2950920" cy="1655640"/>
          </a:xfrm>
        </p:grpSpPr>
        <p:sp>
          <p:nvSpPr>
            <p:cNvPr id="112" name="Oval 4"/>
            <p:cNvSpPr/>
            <p:nvPr/>
          </p:nvSpPr>
          <p:spPr>
            <a:xfrm>
              <a:off x="2916360" y="1052640"/>
              <a:ext cx="2950920" cy="165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3348000" y="134136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"/>
                </a:rPr>
                <a:t>Виды дви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8"/>
          <p:cNvGrpSpPr/>
          <p:nvPr/>
        </p:nvGrpSpPr>
        <p:grpSpPr>
          <a:xfrm>
            <a:off x="324000" y="3284640"/>
            <a:ext cx="2303280" cy="1366560"/>
            <a:chOff x="324000" y="3284640"/>
            <a:chExt cx="2303280" cy="1366560"/>
          </a:xfrm>
        </p:grpSpPr>
        <p:sp>
          <p:nvSpPr>
            <p:cNvPr id="115" name="Oval 6"/>
            <p:cNvSpPr/>
            <p:nvPr/>
          </p:nvSpPr>
          <p:spPr>
            <a:xfrm>
              <a:off x="324000" y="3284640"/>
              <a:ext cx="2303280" cy="1366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39640" y="3642840"/>
              <a:ext cx="187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нтральная симметр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2340000" y="4437000"/>
            <a:ext cx="2303280" cy="1366920"/>
            <a:chOff x="2340000" y="4437000"/>
            <a:chExt cx="2303280" cy="1366920"/>
          </a:xfrm>
        </p:grpSpPr>
        <p:sp>
          <p:nvSpPr>
            <p:cNvPr id="118" name="Oval 10"/>
            <p:cNvSpPr/>
            <p:nvPr/>
          </p:nvSpPr>
          <p:spPr>
            <a:xfrm>
              <a:off x="2340000" y="4437000"/>
              <a:ext cx="2303280" cy="1366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555640" y="4795560"/>
              <a:ext cx="187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евая симметр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4788000" y="4437000"/>
            <a:ext cx="2303280" cy="1366560"/>
            <a:chOff x="4788000" y="4437000"/>
            <a:chExt cx="2303280" cy="1366560"/>
          </a:xfrm>
        </p:grpSpPr>
        <p:sp>
          <p:nvSpPr>
            <p:cNvPr id="121" name="Oval 13"/>
            <p:cNvSpPr/>
            <p:nvPr/>
          </p:nvSpPr>
          <p:spPr>
            <a:xfrm>
              <a:off x="4788000" y="4437000"/>
              <a:ext cx="2303280" cy="1366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4932000" y="4722480"/>
              <a:ext cx="201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араллельный перено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H="1">
            <a:off x="1979280" y="2276640"/>
            <a:ext cx="1079640" cy="10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3492000" y="2637000"/>
            <a:ext cx="35892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003640" y="2637000"/>
            <a:ext cx="505080" cy="18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796000" y="2133720"/>
            <a:ext cx="1297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316320" cy="41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316320" cy="4187520"/>
          </a:xfrm>
          <a:prstGeom prst="rect">
            <a:avLst/>
          </a:prstGeom>
          <a:ln w="0">
            <a:noFill/>
          </a:ln>
        </p:spPr>
      </p:pic>
      <p:sp>
        <p:nvSpPr>
          <p:cNvPr id="130" name="Line 8"/>
          <p:cNvSpPr/>
          <p:nvPr/>
        </p:nvSpPr>
        <p:spPr>
          <a:xfrm>
            <a:off x="2771640" y="386064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3059280" y="530064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340000" y="2565360"/>
            <a:ext cx="453708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700360" y="602136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84360" y="5734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a62"/>
          <p:cNvPicPr/>
          <p:nvPr/>
        </p:nvPicPr>
        <p:blipFill>
          <a:blip r:embed="rId1"/>
          <a:stretch/>
        </p:blipFill>
        <p:spPr>
          <a:xfrm>
            <a:off x="2268360" y="1773360"/>
            <a:ext cx="1895760" cy="220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a62"/>
          <p:cNvPicPr/>
          <p:nvPr/>
        </p:nvPicPr>
        <p:blipFill>
          <a:blip r:embed="rId2"/>
          <a:stretch/>
        </p:blipFill>
        <p:spPr>
          <a:xfrm>
            <a:off x="5076720" y="3068640"/>
            <a:ext cx="2210040" cy="1895400"/>
          </a:xfrm>
          <a:prstGeom prst="rect">
            <a:avLst/>
          </a:prstGeom>
          <a:ln w="0">
            <a:noFill/>
          </a:ln>
        </p:spPr>
      </p:pic>
      <p:sp>
        <p:nvSpPr>
          <p:cNvPr id="138" name="Line 12"/>
          <p:cNvSpPr/>
          <p:nvPr/>
        </p:nvSpPr>
        <p:spPr>
          <a:xfrm>
            <a:off x="4067280" y="4869000"/>
            <a:ext cx="216036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4067280" y="2852640"/>
            <a:ext cx="0" cy="201636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4067280" y="4221000"/>
            <a:ext cx="1225440" cy="64800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419640" y="3789360"/>
            <a:ext cx="647640" cy="107964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a20"/>
          <p:cNvPicPr/>
          <p:nvPr/>
        </p:nvPicPr>
        <p:blipFill>
          <a:blip r:embed="rId1"/>
          <a:stretch/>
        </p:blipFill>
        <p:spPr>
          <a:xfrm>
            <a:off x="1258920" y="2276640"/>
            <a:ext cx="2141640" cy="24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a20"/>
          <p:cNvPicPr/>
          <p:nvPr/>
        </p:nvPicPr>
        <p:blipFill>
          <a:blip r:embed="rId2"/>
          <a:stretch/>
        </p:blipFill>
        <p:spPr>
          <a:xfrm>
            <a:off x="5219640" y="2276640"/>
            <a:ext cx="2089080" cy="244764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284720" y="1844640"/>
            <a:ext cx="0" cy="381636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348000" y="4724280"/>
            <a:ext cx="194472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2484360" y="3068640"/>
            <a:ext cx="360036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1403280" y="4221000"/>
            <a:ext cx="568980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116000" y="5877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имметрия относительно прямой – осевая симме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Определить вид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1449360" y="1291320"/>
            <a:ext cx="6523920" cy="4718880"/>
            <a:chOff x="1449360" y="1291320"/>
            <a:chExt cx="6523920" cy="4718880"/>
          </a:xfrm>
        </p:grpSpPr>
        <p:pic>
          <p:nvPicPr>
            <p:cNvPr id="152" name="Picture 10" descr=""/>
            <p:cNvPicPr/>
            <p:nvPr/>
          </p:nvPicPr>
          <p:blipFill>
            <a:blip r:embed="rId1"/>
            <a:stretch/>
          </p:blipFill>
          <p:spPr>
            <a:xfrm rot="20040600">
              <a:off x="1692360" y="1773000"/>
              <a:ext cx="2592360" cy="17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2"/>
            <a:stretch/>
          </p:blipFill>
          <p:spPr>
            <a:xfrm rot="8209800">
              <a:off x="5147280" y="3646080"/>
              <a:ext cx="25923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Line 12"/>
            <p:cNvSpPr/>
            <p:nvPr/>
          </p:nvSpPr>
          <p:spPr>
            <a:xfrm>
              <a:off x="3348000" y="3214800"/>
              <a:ext cx="2520360" cy="7920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4213080" y="2925720"/>
              <a:ext cx="934560" cy="165564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 flipV="1">
              <a:off x="2844720" y="3573000"/>
              <a:ext cx="3455640" cy="7308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684360" y="573408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имметрия относительно точки – центральная симме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836640"/>
            <a:ext cx="48956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"...быть прекрасным значит быть симметричным и соразмерным"                      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латон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(древнегреческий философ,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28 – 348 г.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364000" y="836640"/>
            <a:ext cx="34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9280" y="981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Симметрия – это красиво или однообра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2376720" cy="237024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0"/>
          <p:cNvGrpSpPr/>
          <p:nvPr/>
        </p:nvGrpSpPr>
        <p:grpSpPr>
          <a:xfrm>
            <a:off x="219600" y="2027880"/>
            <a:ext cx="1699200" cy="2264760"/>
            <a:chOff x="219600" y="2027880"/>
            <a:chExt cx="1699200" cy="2264760"/>
          </a:xfrm>
        </p:grpSpPr>
        <p:grpSp>
          <p:nvGrpSpPr>
            <p:cNvPr id="163" name="Group 10"/>
            <p:cNvGrpSpPr/>
            <p:nvPr/>
          </p:nvGrpSpPr>
          <p:grpSpPr>
            <a:xfrm>
              <a:off x="219600" y="2027880"/>
              <a:ext cx="1699200" cy="2264760"/>
              <a:chOff x="219600" y="2027880"/>
              <a:chExt cx="1699200" cy="2264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468360" y="2853000"/>
                <a:ext cx="1152360" cy="1439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9"/>
              <p:cNvSpPr/>
              <p:nvPr/>
            </p:nvSpPr>
            <p:spPr>
              <a:xfrm rot="8160600">
                <a:off x="468360" y="2276640"/>
                <a:ext cx="1201680" cy="1201680"/>
              </a:xfrm>
              <a:prstGeom prst="rtTriangle">
                <a:avLst/>
              </a:prstGeom>
              <a:solidFill>
                <a:srgbClr val="05791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6"/>
            <p:cNvSpPr/>
            <p:nvPr/>
          </p:nvSpPr>
          <p:spPr>
            <a:xfrm>
              <a:off x="755640" y="3211560"/>
              <a:ext cx="576360" cy="64908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1044720" y="321156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75564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21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286000" cy="3025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2"/>
          <p:cNvSpPr/>
          <p:nvPr/>
        </p:nvSpPr>
        <p:spPr>
          <a:xfrm>
            <a:off x="4067280" y="1989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971640" y="76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В каких отраслях жизни встречается явление симметр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MIN_0009"/>
          <p:cNvPicPr/>
          <p:nvPr/>
        </p:nvPicPr>
        <p:blipFill>
          <a:blip r:embed="rId1"/>
          <a:stretch/>
        </p:blipFill>
        <p:spPr>
          <a:xfrm>
            <a:off x="1042920" y="4437000"/>
            <a:ext cx="3168720" cy="2065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iffel"/>
          <p:cNvPicPr/>
          <p:nvPr/>
        </p:nvPicPr>
        <p:blipFill>
          <a:blip r:embed="rId2"/>
          <a:stretch/>
        </p:blipFill>
        <p:spPr>
          <a:xfrm>
            <a:off x="6926400" y="1341360"/>
            <a:ext cx="17730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0098"/>
          <p:cNvPicPr/>
          <p:nvPr/>
        </p:nvPicPr>
        <p:blipFill>
          <a:blip r:embed="rId3"/>
          <a:stretch/>
        </p:blipFill>
        <p:spPr>
          <a:xfrm>
            <a:off x="4932360" y="4149720"/>
            <a:ext cx="3024360" cy="240660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3529080" cy="221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432010"/>
          <p:cNvPicPr/>
          <p:nvPr/>
        </p:nvPicPr>
        <p:blipFill>
          <a:blip r:embed="rId5"/>
          <a:stretch/>
        </p:blipFill>
        <p:spPr>
          <a:xfrm>
            <a:off x="324000" y="2060640"/>
            <a:ext cx="3058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56:47Z</dcterms:created>
  <dc:creator>Александр</dc:creator>
  <dc:description/>
  <dc:language>en-US</dc:language>
  <cp:lastModifiedBy>26002</cp:lastModifiedBy>
  <dcterms:modified xsi:type="dcterms:W3CDTF">2010-05-31T12:14:25Z</dcterms:modified>
  <cp:revision>2</cp:revision>
  <dc:subject/>
  <dc:title>Исследование планеты Земля</dc:title>
</cp:coreProperties>
</file>